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16C-7C57-4CE4-A09E-8F5E3E77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2C4-846D-498B-9CAC-6C6C1BCF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B9E-1EB9-47FF-B4A8-206DDAEF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1DC-5E8A-48A1-9944-63B5B144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DE9-7188-40CD-B930-B4B25D0B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2AF3-656F-4D8D-B4AF-C04548E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5FE3-D266-4C40-B998-419C822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0D0A-F52E-417E-A313-BA0508D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BBEB-427D-48CB-BA32-EFE34B82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244E-2473-4860-8F73-D98C163D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F8C-3C83-4F1D-A4FF-6AEC2B12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8D4-5E26-4691-8E05-C120B1C6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B2B4-2B0D-445A-A82B-FCF27C1B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58A-1660-4CD6-87E4-C44CB08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486B-A357-4089-96E8-3794C25D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8E2D-EA8D-42A2-8C8F-578A493A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2D98-C615-4F88-8901-6186BEF6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CFDA6-F63F-4B31-9CA0-EBFF07F9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12946-E56C-447D-BD3D-6E8C727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1DCF7-0EE1-435C-96F7-707A4CD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BF2ED-37FD-464F-9558-9D05591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EE8E1-0EA7-48CE-ABD2-EFFFB36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8634-D9FC-446B-8998-098FE1C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DF48ED-F58D-4B70-A679-108BE4F8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DDAB1-4560-44CB-9DBA-833AFD0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00B50-4C3B-411C-AD5B-D1061DC3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E7849-1BB9-4819-AC09-2A0AE3B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D42056-6C94-4380-A80D-CAB8DAAE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77EF0-5820-4FA4-AB7E-CC64E206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6F6B9-4F29-4AA8-A110-C770C161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E92C-3F4B-4079-9866-4426EE5F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AA21-CD4A-47C8-8FB9-CC2ECB08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A887-4765-4F17-A60D-F4E0487A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75B-3E79-4A45-BD7D-3AE122B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C5A5-25B8-4FE7-A646-D790B47F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1E10F-3169-4A77-8D4B-8D42B85B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8AB5-4D40-40AC-9A3D-52505225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CFC93-389A-4DBF-AA09-759DB891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44F3-BD6C-4ED4-BC53-2264BFE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E957-1C84-4EA9-98CE-211A358D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3158-1BF5-4103-BF92-B8DDE3C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E964C-2FBB-44F5-8CBF-91835AD6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54DA-1FFC-4639-B383-647AFBF2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3A04F-299C-47CD-BD19-ADE4C7B5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1D0-7C27-4854-A622-96F6B7C4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03949-3B3F-4249-81FA-86C6A16D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2704E6-507F-4E2C-B424-6DFDFFFA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7D696-89EB-4C18-BD5A-D43E3349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34CF4B-8977-4617-BE07-920A8FD3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599AB9-3E1F-4777-8C3D-F2AF1D73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B9360-33D1-47BE-A71D-0AD14FC7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465F8-9FD6-4BB1-BEEC-E4E81780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31830-F0A6-44C1-9AED-C089CA0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A7C6D-C655-470C-B3C2-2214055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689BC4-E55F-4336-B335-4C348566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8CC-8990-44A2-A267-B6420473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DACB4-8A6E-4994-8743-6B1F2E31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BEF294-1A37-4078-B2D5-FB17FCFC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6F9C9-CB82-49CF-B344-DCC07127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11A24-AD4C-4F6B-B3DA-11F04130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035EE-565C-4A57-B42C-0E4404E5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9C5E4-CE83-4302-B7FF-CB7263E9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C5AA06-B13A-43F4-85A7-4819D787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2DE38-A4A7-40A1-A03F-3823779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01840-A27F-4D13-B472-D18D1745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EF4700-DE1F-4027-9643-4E73FB1D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B54-499C-4724-8DF7-AF250F3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33ABF-59EB-4BAF-864B-CAA8446B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26469-0E07-45EC-816B-1C227177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D71A4-133A-4258-9887-53A3F62F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0335A-B7D1-4824-AB9A-9CC442FA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025B8-C666-49BB-A2AD-2E320F5B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B4077-713A-4B10-BC61-4041BFD5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8BF991-0505-4011-AFFA-EEA8F10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C7AF9-59B5-49FD-BA3C-3C46ECCC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18FE9-6D2D-417E-86CF-13300B86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CB27A-A2D3-47A7-B6C3-1BCC9B6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047-5400-4274-ABE9-F061031E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F059F-8588-4DAB-ABCA-D35F2F4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612C6-2F52-40C4-AC91-14B88625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A44DC-226C-4E85-BB96-4A4108EB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2E9B4-2F5D-40DE-BF85-F0C0EFEA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C3265-61AD-48BB-ABF7-C3A8BAC6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884-5F48-403D-9620-DA02C769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894-C71A-4FC2-B5F9-CCD10006F4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直接连接符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椭圆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椭圆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FAF4-AB95-4156-8FE6-517AABF4DD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AB4F-1BDF-46C3-9641-4A9CF95D56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椭圆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椭圆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椭圆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椭圆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椭圆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直接连接符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A4C5-36B4-4B9C-9305-06F7CDFF20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E8D-6A5C-43C5-B477-6CA8C25053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直接连接符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直接连接符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椭圆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8736-B5C4-4C12-8330-C419009402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椭圆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直接连接符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直接连接符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直接连接符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直接连接符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FAB-F215-4035-8134-430D712BBE3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604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华文行楷"/>
                <a:ea typeface="华文行楷"/>
              </a:rPr>
              <a:t>         </a:t>
            </a: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第七章   </a:t>
            </a:r>
            <a:br>
              <a:rPr sz="4900"/>
            </a:br>
            <a:r>
              <a:rPr b="1" lang="zh-CN" sz="49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成本计算方法概述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5292720" y="47242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6600cc"/>
                </a:solidFill>
                <a:latin typeface="楷体"/>
                <a:ea typeface="楷体"/>
              </a:rPr>
              <a:t>李会青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838080" y="620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装配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大量、大批生产，成本计算方法与连续式多步骤生产基本相同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如为单件、小批生产，以产品的批别或件别作为成本计算对象，又由于其产量较小且基本上是同时完工，成本计算只能在产品完工后才能进行，其成本计算期与生产周期一致，也就不存在生产费用在完工产品和月末在产品之间分配的问题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不同的成本计算对象</a:t>
            </a:r>
            <a:r>
              <a:rPr b="0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980640"/>
            <a:ext cx="86756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单步骤生产，或大量大批多步骤生产情况下，成本管理上不要求按生产步骤计算成本时，成本计算对象就是全厂某月份生产的某种产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品种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大量大批、多步骤生产情况下，成本管理上要求按生产步骤计算成本时，成本计算对象为各步骤某月份生产的半成品或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生产步骤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在单件小批生产情况下，无论单步骤生产还是多步骤生产，成本计算对象通常是某一批或某一件产成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产品的批别或件别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5616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三 、成本计算方法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6920" y="980640"/>
            <a:ext cx="38102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基本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9640" y="1700280"/>
          <a:ext cx="8353440" cy="4821120"/>
        </p:xfrm>
        <a:graphic>
          <a:graphicData uri="http://schemas.openxmlformats.org/drawingml/2006/table">
            <a:tbl>
              <a:tblPr/>
              <a:tblGrid>
                <a:gridCol w="1393920"/>
                <a:gridCol w="1390680"/>
                <a:gridCol w="1393920"/>
                <a:gridCol w="1390680"/>
                <a:gridCol w="1393560"/>
                <a:gridCol w="1390680"/>
              </a:tblGrid>
              <a:tr h="398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计算对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计算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期末在产品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适用范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生产特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成本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品种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品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单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多步骤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批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产品批次或件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定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生产周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一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单件小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不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分步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每种产品及各步骤半成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按月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与会计报告期一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计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大量大批多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要求分步骤计算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8" name="Rectangle 5"/>
          <p:cNvSpPr/>
          <p:nvPr/>
        </p:nvSpPr>
        <p:spPr>
          <a:xfrm>
            <a:off x="1143000" y="4114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333360"/>
            <a:ext cx="8136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辅助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不能独立运用，必须与基本方法结合使用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分类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以产品类别作为成本计算对象，先按大类归集费用，再在类内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品种规格型号繁多，同类产品结构、用料和生产工艺基本相同的企业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定额法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： 定额成本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脱离定额差异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±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定额变动差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适用于：定额制度健全、定额基础好、准确稳定、产品基本定型的企业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简化成本计算工作，加强成本管理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9280" y="692280"/>
            <a:ext cx="79930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前沿方法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 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1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变动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变动成本，固定成本计入当期损益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短期生产经营决策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2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标准成本法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：产品成本只计算标准成本，标准成本与实际成本的差异计入当期损益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用于内部成本控制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Century Schoolbook"/>
              </a:rPr>
              <a:t>3.</a:t>
            </a:r>
            <a:r>
              <a:rPr b="1" lang="zh-CN" sz="2600" spc="-1" strike="noStrike">
                <a:solidFill>
                  <a:srgbClr val="ff0000"/>
                </a:solidFill>
                <a:latin typeface="Century Schoolbook"/>
              </a:rPr>
              <a:t>作业成本法：</a:t>
            </a:r>
            <a:r>
              <a:rPr b="1" lang="zh-CN" sz="2600" spc="-1" strike="noStrike">
                <a:solidFill>
                  <a:srgbClr val="000000"/>
                </a:solidFill>
                <a:latin typeface="Century Schoolbook"/>
              </a:rPr>
              <a:t>将生产过程分为连续的作业，核算每一个作业中心的成本和利润。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6251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[</a:t>
            </a: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章重点</a:t>
            </a:r>
            <a:r>
              <a:rPr b="1" lang="en-US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]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920" y="1989000"/>
            <a:ext cx="70581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制造业的生产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6600cc"/>
                </a:solidFill>
                <a:latin typeface="微软雅黑"/>
                <a:ea typeface="微软雅黑"/>
              </a:rPr>
              <a:t>三种基本成本计算方法的特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34544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第一节     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生产特点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6600cc"/>
                </a:solidFill>
                <a:latin typeface="微软雅黑"/>
                <a:ea typeface="微软雅黑"/>
              </a:rPr>
              <a:t>管理要求</a:t>
            </a:r>
            <a:br>
              <a:rPr sz="3200"/>
            </a:b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对成本计算方法的影响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8000" y="160128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制造业的生产特点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生产组织和生产工艺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图示 3" descr=""/>
          <p:cNvPicPr/>
          <p:nvPr/>
        </p:nvPicPr>
        <p:blipFill>
          <a:blip r:embed="rId1"/>
          <a:stretch/>
        </p:blipFill>
        <p:spPr>
          <a:xfrm>
            <a:off x="749160" y="2530440"/>
            <a:ext cx="785196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360" y="333000"/>
            <a:ext cx="8712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大量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断地重复生产品种相同的产品。例如冶金、采掘、纺织、面粉、化肥、造纸、酿酒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成批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照预定的产品批别和数量进行的生产。分为大批生产和小批生产。例如服装、机床等的生产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单件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订货单位的要求，生产个别的、性质特殊的产品的生产。例如重型机器、船舶、专用设备等以及新产品的试制等。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图示 3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076960" cy="2414520"/>
          </a:xfrm>
          <a:prstGeom prst="rect">
            <a:avLst/>
          </a:prstGeom>
          <a:ln w="0">
            <a:noFill/>
          </a:ln>
        </p:spPr>
      </p:pic>
      <p:sp>
        <p:nvSpPr>
          <p:cNvPr id="358" name="矩形 4"/>
          <p:cNvSpPr/>
          <p:nvPr/>
        </p:nvSpPr>
        <p:spPr>
          <a:xfrm>
            <a:off x="611280" y="299736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）单步骤生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75f6d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生产，生产工艺过程不能间断、或者是不便于分散在几个不同地点进行的生产，例如发电、采掘、铸件等工业生产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0" y="476280"/>
            <a:ext cx="8748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Century Schoolbook"/>
              </a:rPr>
              <a:t>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）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75f6d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杂生产，生产工艺过程可以间断、分散在不同地点、分别在不同时间进行的生产步骤所组成的生产，可以由一个企业的各个车间进行，也可以由几个企业协作进行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按其产品的加工方式，又可分为连续式生产和装配式生产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。连续式生产如纺织、冶金、造纸、服装等。装配式例如机械、车辆、电子、仪表等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工业企业的生产类型如图所示</a:t>
            </a:r>
            <a:r>
              <a:rPr b="1" lang="zh-CN" sz="3200" spc="-1" strike="noStrike">
                <a:solidFill>
                  <a:srgbClr val="575f6d"/>
                </a:solidFill>
                <a:latin typeface="Century Schoolbook"/>
              </a:rPr>
              <a:t>：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2" name="Group 6"/>
          <p:cNvGrpSpPr/>
          <p:nvPr/>
        </p:nvGrpSpPr>
        <p:grpSpPr>
          <a:xfrm>
            <a:off x="431640" y="1484280"/>
            <a:ext cx="15373440" cy="3818880"/>
            <a:chOff x="431640" y="1484280"/>
            <a:chExt cx="15373440" cy="3818880"/>
          </a:xfrm>
        </p:grpSpPr>
        <p:graphicFrame>
          <p:nvGraphicFramePr>
            <p:cNvPr id="363" name="Object 4"/>
            <p:cNvGraphicFramePr/>
            <p:nvPr/>
          </p:nvGraphicFramePr>
          <p:xfrm>
            <a:off x="431640" y="1484280"/>
            <a:ext cx="15373440" cy="3799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36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1640" y="1484280"/>
                      <a:ext cx="15373440" cy="379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5" name="Text Box 5"/>
            <p:cNvSpPr/>
            <p:nvPr/>
          </p:nvSpPr>
          <p:spPr>
            <a:xfrm>
              <a:off x="8292960" y="48434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产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857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二、生产特点和管理要求对成本计算方法的影响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2364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Century Schoolbook"/>
              </a:rPr>
              <a:t>         </a:t>
            </a:r>
            <a:r>
              <a:rPr b="1" lang="en-US" sz="2800" spc="-1" strike="noStrike">
                <a:solidFill>
                  <a:srgbClr val="6600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成本计算对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对象，即在成本计算过程中，为归集和分配生产费用而确定的承受对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、费用的承担者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对象一般由以下几个要素构成：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归属的实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何种产品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主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空间范围。包括全厂（产品生产的整个过程）、车间（产品生产的步骤）、（产品生产的批次）等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成本计算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成本计算的时间段落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）生产费用在完工产品与在产品之间的分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600cc"/>
                </a:solidFill>
                <a:latin typeface="黑体"/>
                <a:ea typeface="黑体"/>
              </a:rPr>
              <a:t>2.</a:t>
            </a:r>
            <a:r>
              <a:rPr b="1" lang="zh-CN" sz="2900" spc="-1" strike="noStrike">
                <a:solidFill>
                  <a:srgbClr val="6600cc"/>
                </a:solidFill>
                <a:latin typeface="黑体"/>
                <a:ea typeface="黑体"/>
              </a:rPr>
              <a:t>生产组织特点和管理要求对产品成本计算的影响</a:t>
            </a: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5056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量生产：大量生产同一种产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大批生产：产量较大，品种相对稳定，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小批生产：批量较小且同批产品大多同时完工，因此可按产品的批别作为成本计算对象；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）单件生产：生产按件组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按产品的批别（或件别）计算产品成本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生产工艺和管理要求对成本计算的影响</a:t>
            </a:r>
            <a:r>
              <a:rPr b="0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1052640"/>
            <a:ext cx="88200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单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的品种作为成本计算对象；以会计报告期作为成本计算期，每月月末定期计算产品成本；一般没有月末在产品，因此不需计算月末在产品成本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连续式多步骤生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entury Schoolbook"/>
              </a:rPr>
              <a:t>以产品品种及其生产步骤作为产品成本计算对象；在每月月末定期计算产品成本；一般各生产步骤在月末都会有一定的在产品，要求在月末将生产费用在完工产品和月末在产品之间进行分配。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1:11:45Z</dcterms:created>
  <dc:creator>番茄花园</dc:creator>
  <dc:description/>
  <dc:language>en-US</dc:language>
  <cp:lastModifiedBy>Administrator</cp:lastModifiedBy>
  <dcterms:modified xsi:type="dcterms:W3CDTF">2022-05-11T01:56:18Z</dcterms:modified>
  <cp:revision>49</cp:revision>
  <dc:subject/>
  <dc:title>第七章   成本计算方法概述</dc:title>
</cp:coreProperties>
</file>